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49C-80F2-40C7-9A2F-B962F76C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59E-0745-4EAA-B563-2558E75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902-2735-4BBE-AFFE-0DD846E2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318-7611-4EA7-9DA5-C2653C23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05A-5B93-4D89-9286-CB478236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0BA-039B-4032-BA3A-B61473D4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C72-3A2D-4485-A9FA-C354AB19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90C-C1F9-4164-87BD-75EDAC70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FA7-7930-4584-BDCB-4847417E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CBC-F3C0-4880-9F13-7E212EEA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6DB-4F60-4589-AC6E-3CE5B488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C73-B892-4348-AD63-7F4A8013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20D3-09E6-479E-8EEA-ABA4F8993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 conquistado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te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ztec used to live in central Mexic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lived in the valley of Mex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Capital was Tenochtitlan it was built in the middle of a lake, today is Mexico 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e  fro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ystalinks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ztec thought Cortez was Quetzacoatl a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ght skinned/ bearde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3962520"/>
            <a:ext cx="4314600" cy="270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81680" y="13716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NGE= AZ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ya used to live on the Mexico coast, Yucatan     Penins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here polytheist (believed in more then one go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one majo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from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inks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19560" y="3763800"/>
            <a:ext cx="4924440" cy="309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4852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N=MAY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as lived in South America, specifically in the Andes MTS, and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was Cuzco population 20 million of the hole civiliz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polytheistic (believe in many Go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easily concord by Pizarro and the Spanish, because two gropes in the Inca civilization were fighting, that a civil war. The Spanish concord the Incas and the Spanish are called conquistadors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a.phillipmartin.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= I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0" y="4800600"/>
            <a:ext cx="1959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tez conquered the Aztecs by posing as friends and Cortez trying to by a god taking ruler Montezum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81280" y="3581280"/>
            <a:ext cx="4981680" cy="279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3800" y="324576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npop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354480"/>
            <a:ext cx="2438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raveled with 500 men and 16 horses and conquered the Aztecs in 1519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zaro took over Inca empire by sneaking in while they were in a civil wa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303280" cy="350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60320" y="32457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istory.wikia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4812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k over a big empire with only 180 men and 27 hor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3716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changed central and south America by forcing there religion to the aztecs,mayas,incas. Who liked there own relig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18064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3:49:54Z</dcterms:created>
  <dc:creator>jklib</dc:creator>
  <dc:description/>
  <dc:language>en-US</dc:language>
  <cp:lastModifiedBy>jklib</cp:lastModifiedBy>
  <dcterms:modified xsi:type="dcterms:W3CDTF">2011-11-30T17:36:34Z</dcterms:modified>
  <cp:revision>6</cp:revision>
  <dc:subject/>
  <dc:title>Cortez and Pizzaro </dc:title>
</cp:coreProperties>
</file>